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C998-BFEA-44BD-A581-33972B06A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the numb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irrational and its value is approximately 2.718. The functio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1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l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ll be discussed later in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020-B616-4AFA-9A4F-4229B157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78D-F026-430A-99F6-2ACD99E5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6CC-1FDC-467C-B41F-523048FA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ABC-71C9-4923-BC5E-A039FA09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D3E-5309-4FE9-8061-6F0E18DE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0BE-34B4-4D83-A934-92F8726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5AA-99A8-40E0-BC78-85AE61CC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33D-7240-493F-A0E9-2890641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C7C-071C-4E6D-AC2D-B7D6324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90A-B46C-49E0-8EE8-1740602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C7D-E183-4D76-835A-E83882EC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274-370D-42C9-8E89-E1A55E6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904-8800-4039-B867-886D90E3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060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isit Unit 1 Function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708280"/>
            <a:ext cx="43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1800" spc="-1" strike="noStrike" baseline="30000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s an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lle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573360"/>
            <a:ext cx="43927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7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4508640"/>
            <a:ext cx="43927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3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Logarithms to the base 10 and to the base 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927000"/>
            <a:ext cx="85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though the base of a logarithm can be any positive number, there are only two bases that are common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720" y="18111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33028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Logarithms to the ba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200" y="285120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Logarithms to the base </a:t>
            </a:r>
            <a:r>
              <a:rPr b="1" i="1" lang="en-US" sz="2400" spc="-1" strike="noStrike">
                <a:solidFill>
                  <a:srgbClr val="01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7032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ogarithms to the base 10 are useful because our number system is based on powers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2000" y="4255920"/>
            <a:ext cx="7976160" cy="459720"/>
            <a:chOff x="252000" y="4255920"/>
            <a:chExt cx="7976160" cy="459720"/>
          </a:xfrm>
        </p:grpSpPr>
        <p:sp>
          <p:nvSpPr>
            <p:cNvPr id="66" name=""/>
            <p:cNvSpPr/>
            <p:nvPr/>
          </p:nvSpPr>
          <p:spPr>
            <a:xfrm>
              <a:off x="4716360" y="4268520"/>
              <a:ext cx="647640" cy="431640"/>
            </a:xfrm>
            <a:prstGeom prst="roundRect">
              <a:avLst>
                <a:gd name="adj" fmla="val 16667"/>
              </a:avLst>
            </a:prstGeom>
            <a:solidFill>
              <a:srgbClr val="e2e7ee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000" y="4255920"/>
              <a:ext cx="79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hey can be found by using the   log   key on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0920" y="477504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ogarithms to the bas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calle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napieria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natural logarithm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have many applications in maths and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920" y="5661000"/>
            <a:ext cx="7977600" cy="459720"/>
            <a:chOff x="250920" y="5661000"/>
            <a:chExt cx="7977600" cy="459720"/>
          </a:xfrm>
        </p:grpSpPr>
        <p:sp>
          <p:nvSpPr>
            <p:cNvPr id="70" name=""/>
            <p:cNvSpPr/>
            <p:nvPr/>
          </p:nvSpPr>
          <p:spPr>
            <a:xfrm>
              <a:off x="4716360" y="5673600"/>
              <a:ext cx="647640" cy="431640"/>
            </a:xfrm>
            <a:prstGeom prst="roundRect">
              <a:avLst>
                <a:gd name="adj" fmla="val 16667"/>
              </a:avLst>
            </a:prstGeom>
            <a:solidFill>
              <a:srgbClr val="e2e7ee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920" y="5661000"/>
              <a:ext cx="797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hey can be found by using the    ln    key on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5960" y="2162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857240" y="3309840"/>
            <a:ext cx="34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ich stands for lo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857240" y="4605480"/>
            <a:ext cx="33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ich stands for lo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038240" y="3309840"/>
            <a:ext cx="60948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7672320" y="3067200"/>
            <a:ext cx="609480" cy="838080"/>
            <a:chOff x="7672320" y="3067200"/>
            <a:chExt cx="609480" cy="838080"/>
          </a:xfrm>
        </p:grpSpPr>
        <p:sp>
          <p:nvSpPr>
            <p:cNvPr id="79" name="AutoShape 9"/>
            <p:cNvSpPr/>
            <p:nvPr/>
          </p:nvSpPr>
          <p:spPr>
            <a:xfrm>
              <a:off x="7672320" y="344808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Object 3"/>
            <p:cNvGraphicFramePr/>
            <p:nvPr/>
          </p:nvGraphicFramePr>
          <p:xfrm>
            <a:off x="7750080" y="3067200"/>
            <a:ext cx="45396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50080" y="3067200"/>
                      <a:ext cx="453960" cy="38088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2" name="AutoShape 13"/>
          <p:cNvSpPr/>
          <p:nvPr/>
        </p:nvSpPr>
        <p:spPr>
          <a:xfrm>
            <a:off x="1038240" y="4600440"/>
            <a:ext cx="60948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7738920" y="4424400"/>
            <a:ext cx="609480" cy="837720"/>
            <a:chOff x="7738920" y="4424400"/>
            <a:chExt cx="609480" cy="837720"/>
          </a:xfrm>
        </p:grpSpPr>
        <p:graphicFrame>
          <p:nvGraphicFramePr>
            <p:cNvPr id="84" name="Object 2"/>
            <p:cNvGraphicFramePr/>
            <p:nvPr/>
          </p:nvGraphicFramePr>
          <p:xfrm>
            <a:off x="7889760" y="4424400"/>
            <a:ext cx="30924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9760" y="4424400"/>
                      <a:ext cx="309240" cy="38088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AutoShape 14"/>
            <p:cNvSpPr/>
            <p:nvPr/>
          </p:nvSpPr>
          <p:spPr>
            <a:xfrm>
              <a:off x="7738920" y="4805280"/>
              <a:ext cx="609480" cy="4568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7"/>
          <p:cNvSpPr/>
          <p:nvPr/>
        </p:nvSpPr>
        <p:spPr>
          <a:xfrm>
            <a:off x="1038240" y="586728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finding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 on your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920000" y="57690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360" y="549360"/>
            <a:ext cx="383544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Using your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205240" y="330984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its i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181480" y="460548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its i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s of  loga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765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ing logarithms to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6300720" y="7650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06064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ve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9 to 2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56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ake logarithms to base 10 of both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6</a:t>
            </a:r>
            <a:r>
              <a:rPr b="0" lang="en-US" sz="1800" spc="-1" strike="noStrike" baseline="4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78936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6 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22100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8136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15772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6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73408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ns      x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771640" y="429264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00280"/>
            <a:ext cx="4176720" cy="105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pulation of 5 million increased at an annual  rate of 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 years its value is giv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08280"/>
            <a:ext cx="417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5 x 1.0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68640"/>
            <a:ext cx="4176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Calculate the population after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716280"/>
            <a:ext cx="4176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 After how many years will the population exceed 12 mill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79736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5 x 1.0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2936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8.56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66100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9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177336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=  5 x 1.0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213372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=      1.0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42100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06864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4    = t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364500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4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400536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8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300720" y="7650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765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ing logarithms to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65300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735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15772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2 years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3700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73360"/>
            <a:ext cx="8424720" cy="301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44  Ex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2-03T22:02:09Z</dcterms:modified>
  <cp:revision>22</cp:revision>
  <dc:subject/>
  <dc:title>Slide 1</dc:title>
</cp:coreProperties>
</file>